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B5D-9CE3-40B6-9BCF-B17363C8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471-DEA3-4415-AFE1-8E70BDF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09F-DF28-4C80-8B04-B30E7681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DB8-D621-4E48-852B-56A4AAA7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12C-97EC-46D3-9101-FD9348F8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3C4-6FB7-478E-815F-2920F995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C90-054C-420E-8BAE-899A10B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698-EECA-422D-9672-7A963330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5F0-5DF3-474A-85DC-93EBB038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EE1-9A59-4849-8748-9A6B67E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B6F-4421-4847-AF00-CBA21F3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BC7-576E-4CC1-85A1-F354CF5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029-8EE7-48E6-9B4D-3BBE738D0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184464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357720"/>
            <a:ext cx="57610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cc0000"/>
                </a:solidFill>
                <a:latin typeface="Arial"/>
              </a:rPr>
              <a:t>verb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doing </a:t>
            </a:r>
            <a:r>
              <a:rPr b="1" lang="en-NZ" sz="4000" spc="-1" strike="noStrike">
                <a:solidFill>
                  <a:srgbClr val="cc0000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pot that rhy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797360"/>
            <a:ext cx="619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tiring (lik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running, working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wet (like </a:t>
            </a:r>
            <a:r>
              <a:rPr b="1" lang="en-NZ" sz="2800" spc="-1" strike="noStrike">
                <a:solidFill>
                  <a:srgbClr val="cc0000"/>
                </a:solidFill>
                <a:latin typeface="Arial"/>
              </a:rPr>
              <a:t>swimm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eels great (like </a:t>
            </a:r>
            <a:r>
              <a:rPr b="1" lang="en-NZ" sz="2400" spc="-1" strike="noStrike">
                <a:solidFill>
                  <a:srgbClr val="cc0000"/>
                </a:solidFill>
                <a:latin typeface="Arial"/>
              </a:rPr>
              <a:t>eating, kissing, snooz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09:31:05Z</dcterms:modified>
  <cp:revision>16</cp:revision>
  <dc:subject/>
  <dc:title>Simile</dc:title>
</cp:coreProperties>
</file>